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F0B-AD36-4184-A1DA-AE2530BD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E38-0A64-4E9D-8512-D8BCB7D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ADB-EEDE-4109-8560-53CD25A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695-21E1-4E93-BB67-89FB2A00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98A6-8735-40F0-80C0-D07326D4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341-0B72-4DA2-825F-AD5E636D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159-B85D-4958-B30E-76440FC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E397-693A-4D9C-80CA-EB37440B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70F-459D-42D0-A763-157F135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E139-0B79-4C07-B2E8-472ED8E6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E838-0FD5-4C48-A960-D4EFA10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4C6-0DF9-432C-8272-16402F8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0A00-BC02-4F8A-9F33-52DC16E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EC90-2F6C-4F8C-B0D3-CCD6F39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5974-2E29-427C-8236-8BF0038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8328-0504-4CB8-83A5-7770D31E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4A8-CAD9-4B30-B025-A5CA2EEC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8B96-B3DE-44FB-A14B-5A6E734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3BBC-B15D-46BD-A31E-B123736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A3E5-EE85-4FF2-A167-0389012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6A75-66EC-4660-919C-0484AB4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D821-D79E-428F-B25B-095E8FB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659-2B31-4467-B893-E02CC18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8B91-DB7F-42BC-AB74-29DA36C6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1CBB-8338-42FA-A9BB-2BDA9C31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E927-2C4A-4257-B9F3-79D9D95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FA07-41A1-4672-B12D-4A84ED9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194E-EA10-4734-ACBF-055CE9CA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E012-1FE5-4E10-8708-B1CB6AC4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162B-03DB-4968-907A-CEF8AB03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61F0-4D11-4800-82BE-FEAD5B39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5ED6-CFAC-438A-A357-C5AB26F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A64D-7E0E-4C46-82C7-37D287D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A7-6D7E-491A-BBA9-6C78C28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D40F-9DA8-4BD0-A975-D4757E2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0030-1C71-4F03-B377-CF79522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7404-1779-44CB-B473-95FB92C4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6D19-226F-418E-B16F-6753B8B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6580-171A-4998-847B-5F07D2D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3DFB-2723-4CA5-875A-F524EB0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2577-0AD2-4DA5-8F60-2D27078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B500-1577-48A6-B1E7-1E5BEE3B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1AA3-8D3A-4044-A37D-F427F469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7CB-92F5-4535-8535-5E85EB7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4C6-551A-4524-A308-3B11A8E2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1D5-8C0A-4ED4-B4D3-D671A999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F4D-7C19-4CB2-9F43-335D838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2EE-C9F6-4290-8639-ABD6B1D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708F6-8A8D-42D2-B0D4-7F10FE65B294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DA1AA-921B-467B-866C-B1DC969803B6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B47C9-892A-454A-ADC8-75AD72F59947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D66BB-5FDC-456C-8721-53C0406965AC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2009520"/>
            <a:ext cx="8021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f7698"/>
                </a:solidFill>
                <a:latin typeface="Times New Roman"/>
                <a:ea typeface="Times New Roman"/>
              </a:rPr>
              <a:t>Подготовка общеобразовательных организаций к проведению аккредитационного мониторинг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112760" y="4597560"/>
            <a:ext cx="616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ксимкина Людмила Викторовна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сультант  отдела развития дошкольного и общего образования комитета по образованию администрации муниципального образования «Город Саратов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-360" y="939960"/>
            <a:ext cx="7410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880" y="295200"/>
            <a:ext cx="868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е мероприятия для проведения аккредитационного мониторинга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2080" y="1371600"/>
            <a:ext cx="9682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дать приказ(-ы) о назначении 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внесение сведений о показателях аккредитационного мониторинга в ИС 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 лица (технического специалиста) за обеспечение организационно-технического сопровождения проведения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подготовку и размещение информации на официальном сайте образовательной организации в соответствии с показателями аккредитационного мониторинга (при необходимости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изировать размещенную информацию на официальном сайте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информационно-разъяснительную работу с педагогическими работниками, иными сотрудниками образовательной организации о процедуре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предварительный мониторинг готовности образовательной организации к внесению сведений в ИС ГА в соответствии с показателями аккредитационного мониторинга по уровням реализуемых программ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ить логины и парол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ичном кабинете провести анализ перечня реализуемых образовательных программ, подлежащих аккредитационному мониторингу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сведений в личном кабинете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гласование сведений, внесенных в личном ИС ГА с муниципальным координатор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необходимых изменений по итогам согласовани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ать материалов аккредитационного мониторинга, подпись, сканирование, отправка в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640" y="114480"/>
            <a:ext cx="909648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к-лист готовности общеобразовательной организации к аккредитационному мониторингу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28600" y="1805040"/>
            <a:ext cx="3581280" cy="5052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33600" y="1474920"/>
            <a:ext cx="3724560" cy="52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772320" y="1171440"/>
            <a:ext cx="37098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19200" y="2914560"/>
            <a:ext cx="3448080" cy="1266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электронной информационно-образовательной сред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619200" y="4324320"/>
            <a:ext cx="3448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в период проведения аккредитационного мониторинга информаци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сайт организации в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ГИС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0"/>
          <p:cNvSpPr/>
          <p:nvPr/>
        </p:nvSpPr>
        <p:spPr>
          <a:xfrm>
            <a:off x="4343400" y="628560"/>
            <a:ext cx="4229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еется» устанавливается, если на официальном сайте организации представлены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четыре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едующих компонентов электронной информационно-образовательной среды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информационно-телекоммуникационной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 об электронной информационно-образовательной сред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цифровой (электронной) библиотеке и (или) иным электронным образовательным ресурсам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ой системе учета обучающихся, учета и хранения их образовательных результатов (электронный журнал, электронный дневник)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ым портфолио обучающихс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учебному плану, рабочим программам учебных предметов, учебных курсов (в том числе внеурочной деятельности), учебных модулей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кабинет в федеральной государственной информационной системе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8277120" y="1762200"/>
            <a:ext cx="35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оответствующим договором или актами выполненных рабо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авая фигурная скобка 12"/>
          <p:cNvSpPr/>
          <p:nvPr/>
        </p:nvSpPr>
        <p:spPr>
          <a:xfrm>
            <a:off x="8277120" y="2400480"/>
            <a:ext cx="295560" cy="3333600"/>
          </a:xfrm>
          <a:custGeom>
            <a:avLst/>
            <a:gdLst>
              <a:gd name="textAreaLeft" fmla="*/ 0 w 295560"/>
              <a:gd name="textAreaRight" fmla="*/ 106560 w 295560"/>
              <a:gd name="textAreaTop" fmla="*/ 7560 h 3333600"/>
              <a:gd name="textAreaBottom" fmla="*/ 33260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7000"/>
                </a:lnTo>
                <a:cubicBezTo>
                  <a:pt x="10800" y="7080"/>
                  <a:pt x="16200" y="7159"/>
                  <a:pt x="21600" y="7159"/>
                </a:cubicBezTo>
                <a:cubicBezTo>
                  <a:pt x="16200" y="7159"/>
                  <a:pt x="10800" y="7239"/>
                  <a:pt x="10800" y="7318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8696160" y="2562120"/>
            <a:ext cx="2981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сылкой на соответствующий раздел официального сайта организации в сети «Интернет», функционирующий в период проведения аккредитационного мониторинг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8572680" y="5448240"/>
            <a:ext cx="361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у организации личного кабинета в ФГИС «Моя школа» вышеуказанные компоненты электронной информационно-образовательной среды не учитываются, а организации присваивается значение «Имеется»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476280" y="2914560"/>
            <a:ext cx="3790800" cy="14097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обучающихся в оценочных мероприятиях, проведенных в рамках мониторинга системы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619200" y="4324320"/>
            <a:ext cx="344808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обрнадзор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ценки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4513320" y="771480"/>
            <a:ext cx="6400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четвертых учебных классов организации началь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пятых - восьмых учебных классов организации основ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одиннадцатых учебных классов организации средне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468680" y="4943520"/>
            <a:ext cx="669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текущий учебный год или учебный год, предшествующий году проведения аккредитационного мониторинга, в случае если в текущем учебном году организация не участвовала во всероссийских проверочных работах по отдельным учебным предмета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авая фигурная скобка 11"/>
          <p:cNvSpPr/>
          <p:nvPr/>
        </p:nvSpPr>
        <p:spPr>
          <a:xfrm rot="5400000">
            <a:off x="7444800" y="1733400"/>
            <a:ext cx="292320" cy="58323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5832360"/>
              <a:gd name="textAreaBottom" fmla="*/ 582480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"/>
                  <a:pt x="10800" y="91"/>
                </a:cubicBezTo>
                <a:lnTo>
                  <a:pt x="10800" y="15256"/>
                </a:lnTo>
                <a:cubicBezTo>
                  <a:pt x="10800" y="15302"/>
                  <a:pt x="16200" y="15347"/>
                  <a:pt x="21600" y="15347"/>
                </a:cubicBezTo>
                <a:cubicBezTo>
                  <a:pt x="16200" y="15347"/>
                  <a:pt x="10800" y="15393"/>
                  <a:pt x="10800" y="15438"/>
                </a:cubicBezTo>
                <a:lnTo>
                  <a:pt x="10800" y="21509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11040" y="2884320"/>
            <a:ext cx="4608720" cy="2364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4975200" y="1449360"/>
            <a:ext cx="64008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имеющих первую или высшую квалификационные категории по должности «Учитель» и (или) «Преподаватель», ученое звание и (или) ученую степень (в том числе богословскими учеными степенями и званиями) и лиц, приравненных к ним, участвующих в реализации учебного плана образовательной программы соответствующего уровня образования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рганизации общего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2040" y="2505240"/>
            <a:ext cx="4046760" cy="376380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4975200" y="1449360"/>
            <a:ext cx="640080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прошедших повышение квалификации по профилю педагогической деятельности за последние 3 года, участвующих в реализации учебного плана образовательной программы соответствующего уровня образован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7529400" y="473868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3"/>
          <a:stretch/>
        </p:blipFill>
        <p:spPr>
          <a:xfrm>
            <a:off x="6462720" y="1019160"/>
            <a:ext cx="1712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975200" y="14493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не набравших минимальное количество баллов по обязательным учебным предметам при прохождении государственной итоговой аттест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проходивших государственную итоговую аттестацию по соответствующей образовательной программе по обязательным учебным предмет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285840" y="2754360"/>
            <a:ext cx="4060800" cy="22683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не набравших минимальное количество баллов по обязательным учебным предметам при прохождении государственной итоговой аттестации по образовательной программе, от общего количества выпускни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486480" y="1058760"/>
            <a:ext cx="1552680" cy="5716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4975200" y="14619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получивших допуск к государственной итоговой аттестации (без учета повторного прохождения итогового собеседования/ повторного написания итогового сочинения (изложения) и (или) ликвидации академической задолженност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освоивших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285840" y="2754360"/>
            <a:ext cx="4227480" cy="24350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получивших допуск к государственной итоговой аттестации по образовательной программе (без учета повторного прохождения итогового собеседования по русскому языку/ повторного написания итогового сочинения (изложения) и (или) ликвидации академической задолженности), от общего количества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6742080" y="1058760"/>
            <a:ext cx="1319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6T16:39:05Z</dcterms:created>
  <dc:creator>User Windows</dc:creator>
  <dc:description/>
  <dc:language>en-US</dc:language>
  <cp:lastModifiedBy>j.ardabackaya</cp:lastModifiedBy>
  <dcterms:modified xsi:type="dcterms:W3CDTF">2023-09-20T14:14:27Z</dcterms:modified>
  <cp:revision>52</cp:revision>
  <dc:subject/>
  <dc:title>Презентация PowerPoint</dc:title>
</cp:coreProperties>
</file>