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A52-0DFB-4D23-BEB0-1471A244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ED3-763A-460B-A2FE-CAF1FBF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E8C-E2B3-465F-BF4E-68F02AF8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6C9-2DA5-4DE1-95AE-8D44B459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3BD2-CB84-4318-BACD-E86AB3D5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2F7F-3320-4750-A985-03F46800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DD16-C6AF-415C-A130-BC87D3D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13D0-2CAD-4CF6-8A7C-42ABC75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4074-DA3B-42CA-8739-78EDD685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FBE-7D3A-4D01-A831-A1BA350F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973-E52F-40B6-A000-72F663E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E63-DD64-4582-8A5C-EC41E5E9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067-5DF5-46B6-823D-DBA49A1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C62E-BDDC-4B97-927A-CC5316F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7F5-7511-4D01-A61A-3B5CD2C9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54D-D1BF-4EBA-8585-8247F479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91D2-1621-418F-AF2C-01F54FE4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97D8-6CC6-4C4E-9882-557DF9F4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1DDF-FA31-4A0C-A144-4BBAD177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F76F-97A0-4C2C-974E-40E7A058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F20C-9743-45AE-BA2B-70502B29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FCD8-0DE6-49FF-B266-2889721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3D8-B17F-4FEA-BFAD-3423D40B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31FA-EF8C-4E55-A3E3-1393D54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C38D-A765-47D8-AC7B-7A234B7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CD5A-0637-4221-A328-D98BEC2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56EE-7052-4463-9A32-A2DBD55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08EE-ADA2-4358-8C7D-44F174FB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8255-52B3-45C9-A147-93D979C0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28AA-2E0C-4ED8-859D-EE75F71C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5569-521D-4663-AB51-145BFA00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7B0A-0026-437D-BAD1-DB7B2BC6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70F4-D9BA-47C1-A45F-8D8D3B25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9BC-5893-468D-A367-E782499E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2771-7A4F-482E-8959-1374017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F314-F2D1-4611-9B38-46974A07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34F3-4255-4042-AC9C-215B534F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401D-7500-4430-8C20-32F39D3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D0CA-DD9B-4E40-9017-643ACD8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583B-A172-46D8-A839-8B30750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13F1-B76D-4288-AAB1-AD61780A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6438-70BC-4621-9B64-850A45B0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7070-9D6F-4CEE-A962-5739CC01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996-1F50-4464-BA46-113B3E8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189-0639-4DF0-9018-4B05BBC9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C47-DAD0-4086-A618-6731FB6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A8C-2839-4A42-92DA-4278C5F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466-8670-444A-9A12-0B729E1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1F5A8-9EB0-4B4F-8A64-BB0D2112F0BC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F02C5-2485-43A5-8C60-0EF4A13C0053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C42A5-0DD0-47A5-A87C-02FEDCBAD1EF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2D621-BB4A-4ED4-82E2-FCD0D10752E3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2009520"/>
            <a:ext cx="80218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f7698"/>
                </a:solidFill>
                <a:latin typeface="Times New Roman"/>
                <a:ea typeface="Times New Roman"/>
              </a:rPr>
              <a:t>Подготовка среднего профессионального образования к проведению аккредитационного мониторинг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112760" y="4597560"/>
            <a:ext cx="616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Чубарых Татьяна Евгеньевна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етственный за аккредитационный мониториг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ГАПОУ СО «Вольский педагогический колледж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им.Ф.И.Панферова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-360" y="939960"/>
            <a:ext cx="7410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880" y="295200"/>
            <a:ext cx="8685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е мероприятия для проведения аккредитационного мониторинга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2080" y="1371600"/>
            <a:ext cx="9682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дать приказ(-ы) о назначении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внесение сведений о показателях аккредитационного мониторинга в ИС 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 лица (технического специалиста) за обеспечение организационно-технического сопровождения проведения аккредитационного мониторин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подготовку и размещение информации на официальном сайте образовательной организации в соответствии с показателями аккредитационного мониторинга (при необходимости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изировать размещенную информацию на официальном сайт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информационно-разъяснительную работу с педагогическими работниками, иными сотрудниками образовательной организации о процедуре аккредитационного мониторин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предварительный мониторинг готовности образовательной организации к внесению сведений в ИС ГА в соответствии с показателями аккредитационного мониторинга по уровням реализуемых программ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учить логины и парол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ичном кабинете провести анализ перечня реализуемых образовательных программ, подлежащих аккредитационному мониторингу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ти сведения в ИС ГА посредством личного кабинет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619200" y="2914560"/>
            <a:ext cx="3448080" cy="1266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электронной информационно-образовательной среды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619200" y="4324320"/>
            <a:ext cx="3448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в период проведения аккредитационного мониторинга информаци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сайт организации в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ГИС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0"/>
          <p:cNvSpPr/>
          <p:nvPr/>
        </p:nvSpPr>
        <p:spPr>
          <a:xfrm>
            <a:off x="4343400" y="628560"/>
            <a:ext cx="45054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еется» устанавливается, если на официальном сайте организации представлены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четырех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едующих компонентов электронной информационно-образовательной среды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оступ к информационно-телекоммуникационной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окальный нормативный акт об электронной информационно-образовательной сред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личие доступа к цифровой (электронной) библиотек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личие доступа к электронным образовательным ресурсам и (или) профессиональным базам данных (подборкам информационных ресурсов по тематикам в соответствии с содержанием реализуемой образовательной программы)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аличие доступа к электронной системе учета обучающихся, учета и хранения их образовательных результатов (электронный журнал)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наличие возможности взаимодействия педагогических работников с обучающимися (личные кабинеты обучающихся и преподавателей) в электронной информационно-образовательной среде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аличие доступа к электронному расписанию (под электронным расписанием понимается сервис, с помощью которого каждый студент может узнать свое актуальное расписание занятий и сессии)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кабинет в федеральной государственной информационной системе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8696160" y="1687680"/>
            <a:ext cx="35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оответствующим договором или актами выполненных рабо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авая фигурная скобка 12"/>
          <p:cNvSpPr/>
          <p:nvPr/>
        </p:nvSpPr>
        <p:spPr>
          <a:xfrm>
            <a:off x="8277120" y="2400480"/>
            <a:ext cx="295560" cy="3333600"/>
          </a:xfrm>
          <a:custGeom>
            <a:avLst/>
            <a:gdLst>
              <a:gd name="textAreaLeft" fmla="*/ 0 w 295560"/>
              <a:gd name="textAreaRight" fmla="*/ 106560 w 295560"/>
              <a:gd name="textAreaTop" fmla="*/ 7560 h 3333600"/>
              <a:gd name="textAreaBottom" fmla="*/ 33260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59"/>
                </a:cubicBezTo>
                <a:lnTo>
                  <a:pt x="10800" y="7000"/>
                </a:lnTo>
                <a:cubicBezTo>
                  <a:pt x="10800" y="7080"/>
                  <a:pt x="16200" y="7159"/>
                  <a:pt x="21600" y="7159"/>
                </a:cubicBezTo>
                <a:cubicBezTo>
                  <a:pt x="16200" y="7159"/>
                  <a:pt x="10800" y="7239"/>
                  <a:pt x="10800" y="7318"/>
                </a:cubicBezTo>
                <a:lnTo>
                  <a:pt x="10800" y="21441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8848800" y="2581200"/>
            <a:ext cx="2981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сылкой на соответствующий раздел официального сайта организации в сети «Интернет», функционирующий в период проведения аккредитационного мониторинг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8739360" y="5338800"/>
            <a:ext cx="361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у организации личного кабинета в ФГИС «Моя школа» вышеуказанные компоненты электронной информационно-образовательной среды не учитываются, а организации присваивается значение «Имеется»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5"/>
          <p:cNvSpPr/>
          <p:nvPr/>
        </p:nvSpPr>
        <p:spPr>
          <a:xfrm>
            <a:off x="476280" y="324000"/>
            <a:ext cx="3867120" cy="237960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476280" y="2851200"/>
            <a:ext cx="3790800" cy="147312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трудоустроившихся в течение календарного года, следующего за годом выпуска, в общей численности выпускников по образовательной программе 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619200" y="4324320"/>
            <a:ext cx="3448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труд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0"/>
          <p:cNvSpPr/>
          <p:nvPr/>
        </p:nvSpPr>
        <p:spPr>
          <a:xfrm>
            <a:off x="4513320" y="771480"/>
            <a:ext cx="66499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оказатель рассчитывается по следующей форме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выпускники по трудовому договору, ГПХ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выпускники, являющиеся ИП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выпускники, являющиеся самозанятым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общая численность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общая численность выпускников, продолживших обуч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2=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+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+ С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/(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 Вп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х 10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ВПК: (151+0+0)/(200-10)х100=79%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4597560" y="4968720"/>
            <a:ext cx="656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предшествующих года проведения аккредитационного мониторин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авая фигурная скобка 11"/>
          <p:cNvSpPr/>
          <p:nvPr/>
        </p:nvSpPr>
        <p:spPr>
          <a:xfrm rot="5400000">
            <a:off x="7487280" y="1735920"/>
            <a:ext cx="228600" cy="58118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5811840"/>
              <a:gd name="textAreaBottom" fmla="*/ 5806080 h 58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1"/>
                </a:cubicBezTo>
                <a:lnTo>
                  <a:pt x="10800" y="15276"/>
                </a:lnTo>
                <a:cubicBezTo>
                  <a:pt x="10800" y="15312"/>
                  <a:pt x="16200" y="15347"/>
                  <a:pt x="21600" y="15347"/>
                </a:cubicBezTo>
                <a:cubicBezTo>
                  <a:pt x="16200" y="15347"/>
                  <a:pt x="10800" y="15383"/>
                  <a:pt x="10800" y="15418"/>
                </a:cubicBezTo>
                <a:lnTo>
                  <a:pt x="10800" y="21529"/>
                </a:lnTo>
                <a:cubicBezTo>
                  <a:pt x="10800" y="2156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5"/>
          <p:cNvSpPr/>
          <p:nvPr/>
        </p:nvSpPr>
        <p:spPr>
          <a:xfrm>
            <a:off x="476280" y="324000"/>
            <a:ext cx="3867120" cy="220320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476280" y="2716200"/>
            <a:ext cx="3790800" cy="160812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обучающихся образовательной организации в оценочных процедурах, проведенных в рамках мониторинга системы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619200" y="4324320"/>
            <a:ext cx="344808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обрнадзора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ценки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0"/>
          <p:cNvSpPr/>
          <p:nvPr/>
        </p:nvSpPr>
        <p:spPr>
          <a:xfrm>
            <a:off x="4554360" y="1177920"/>
            <a:ext cx="6651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вших по предметам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м Рособрнадзором во всероссийских проверочных работах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4597560" y="4968720"/>
            <a:ext cx="656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кущий учебный год или учебный год, предшествующий году проведения аккредитационного мониторин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лучае если в текущем учебном году организация не участвовала во всероссийских проверочных работах по отдельным учебным предмета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авая фигурная скобка 11"/>
          <p:cNvSpPr/>
          <p:nvPr/>
        </p:nvSpPr>
        <p:spPr>
          <a:xfrm rot="5400000">
            <a:off x="7487280" y="1735920"/>
            <a:ext cx="228600" cy="58118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5811840"/>
              <a:gd name="textAreaBottom" fmla="*/ 5806080 h 58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1"/>
                </a:cubicBezTo>
                <a:lnTo>
                  <a:pt x="10800" y="15276"/>
                </a:lnTo>
                <a:cubicBezTo>
                  <a:pt x="10800" y="15312"/>
                  <a:pt x="16200" y="15347"/>
                  <a:pt x="21600" y="15347"/>
                </a:cubicBezTo>
                <a:cubicBezTo>
                  <a:pt x="16200" y="15347"/>
                  <a:pt x="10800" y="15383"/>
                  <a:pt x="10800" y="15418"/>
                </a:cubicBezTo>
                <a:lnTo>
                  <a:pt x="10800" y="21529"/>
                </a:lnTo>
                <a:cubicBezTo>
                  <a:pt x="10800" y="2156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393840" y="2725560"/>
            <a:ext cx="3975120" cy="2463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нный результат предшествующей аттестации обучающихся образовательной организации в форме демонстрационного экзамена по образовательной программе среднего профессионального обучения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сли образовательной программой предусмотрено наличие демонстрационного экзамена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392040" y="5468760"/>
            <a:ext cx="113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в форме демонстрационного экзаме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4795920" y="10018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нное значение результатов прохождения только итоговой аттестации за последние двенадцать месяцев, предшествующих году проведения аккредитационного мониторинга, в форе демонстрационного экзамена среди обучающихся выпускного курса по указанной профессии, специальности 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4975200" y="1449360"/>
            <a:ext cx="6400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ставок, занимаемых педагогами с опытом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ставок, занимаемых педагогами, реализующими профессиональные модули основной программы 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6149880" y="4208400"/>
            <a:ext cx="57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кадры,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Рисунок 1" descr=""/>
          <p:cNvPicPr/>
          <p:nvPr/>
        </p:nvPicPr>
        <p:blipFill>
          <a:blip r:embed="rId3"/>
          <a:srcRect l="30965" t="45697" r="27319" b="24864"/>
          <a:stretch/>
        </p:blipFill>
        <p:spPr>
          <a:xfrm>
            <a:off x="127080" y="3220920"/>
            <a:ext cx="51181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311040" y="2884320"/>
            <a:ext cx="4608720" cy="23641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4975200" y="1449360"/>
            <a:ext cx="6400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имеющих первую или высшую квалификационные категории, ученое звание и (или) ученую степень (в том числе богословскими учеными степенями и званиями) и лиц, приравненных к ним, участвующих в реализации учебного плана образовательной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его уровня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786200" y="628560"/>
            <a:ext cx="6589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7 «Имеется» устанавливается, если на официальном сайте профессиональной организации представлены следующие критерии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 о внутренней системе оценки качества образовательной деятельности в профессиональной организации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 самообследовании профессиональной организаци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10"/>
          <p:cNvSpPr/>
          <p:nvPr/>
        </p:nvSpPr>
        <p:spPr>
          <a:xfrm>
            <a:off x="476280" y="2925720"/>
            <a:ext cx="3790800" cy="160812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истемы оценки качества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6T16:39:05Z</dcterms:created>
  <dc:creator>User Windows</dc:creator>
  <dc:description/>
  <dc:language>en-US</dc:language>
  <cp:lastModifiedBy>j.ardabackaya</cp:lastModifiedBy>
  <dcterms:modified xsi:type="dcterms:W3CDTF">2023-09-21T14:10:30Z</dcterms:modified>
  <cp:revision>70</cp:revision>
  <dc:subject/>
  <dc:title>Презентация PowerPoint</dc:title>
</cp:coreProperties>
</file>