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sldIdLst>
    <p:sldId id="256" r:id="rId41"/>
    <p:sldId id="257" r:id="rId42"/>
    <p:sldId id="258" r:id="rId43"/>
    <p:sldId id="259" r:id="rId44"/>
    <p:sldId id="260" r:id="rId45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69AA-8311-4EF7-B73F-1E3C3F9F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C661-01D2-4E20-80F7-03789A40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5DC3B7-1647-4678-ACCA-F1F9308D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C3318-93F5-48D2-9E93-4C7E557A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0A5B5B-C716-44D9-84A3-8E3382E1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94FDBC-A5A1-4B00-89B8-050A2155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67A758-13EE-4C73-97A4-BB17C3ED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AD7A12-9129-4303-A780-C6A6973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A2984C-E2DE-4A6A-A95E-DF32E39E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CC91DB-3F50-407D-BE83-36C642CA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25799F-E1BB-4F4F-AEEC-A0E26C97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B6EA92-7586-4B9C-84EF-66085C2D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79F0-DADE-4425-877F-C9AEAEF4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F1BC63-B50E-48F6-87F2-D75838FB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17DA6B-2586-4BE5-A612-A72592F3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92E7AB-31CB-45C0-8404-A4302E77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B3373D-4D29-468A-A026-E5BD71C7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6EC0F3-E50E-4E3A-AEE1-C8A6AA10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16616F-3C72-4475-9AE6-AA14F4DF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5C0318-746A-42C7-8066-F38B0648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136635-CCFF-4F67-AB31-7486B73B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9CC32B-212E-486F-962F-B837EF69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0ACED8-1F93-446C-8057-274F7CCE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CF2A-5280-404C-BEB0-6CF1D1C0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CDB254-70DD-49C1-8CE3-88C39C2A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344618-8E53-420F-BBAB-C672B81F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67B8E1-D269-4E9E-A66B-D8550E3F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7A29E5-8192-4A3A-9E7E-ED275BF9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442E9D-3D60-4995-8C75-4D65BBAC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9D673F-C732-46B5-9079-47EF2F74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531CA7-CA91-49D3-8B18-7411152B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A223AE-B99B-43D4-A30C-8C582874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CC5D14-E54C-473B-9ACF-4F7F6E1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577946-8904-4FFF-9A1C-6B521521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8908A-D702-4013-B5AC-B3C67FA1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5EB541-A56D-493E-89A6-C9BF82C6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8042D8-0DBF-4F49-AA7D-8E630B94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BBBCB5-BFD9-4E1A-97BA-76A105BE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DEE2F2-3F79-41B4-8CA4-D85EDD3F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87DBEE-47F4-4C84-AB72-9ADC2565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BAEB98-9EF6-4602-A6F8-08516C2F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D7CEBB-F9A9-4AE8-983C-47875A97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8ED907-79D2-4096-865E-6C28C9F1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38DA1D-F8FF-4DA3-BFEB-890AF6C4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E658CB-908C-4700-8A5E-202A3B48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ABC06-32A0-41C8-BFE2-F6AC4693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B6420E-5CFC-4D6D-8C9F-E725EFFC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BB9869-F4E1-4C61-AD55-1797A4CD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E29BDB-1E5A-4723-8175-D08403BC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6EDDA8-29E0-42B2-AC4B-CBA2035D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269623-35C2-4427-AAC7-B15B0847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0FD38A-4C22-47BA-9BF3-EEE1EF61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B42DBD-4F5C-4FE3-BA65-1A0DCC9A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9DA77B-5AC7-442A-BB37-E4703DA5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63491C-8C8F-413F-A769-22DFBD73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3DA400-6C5D-403F-B0D4-00A3DA16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47CA0-627D-4605-BBB8-BF138857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3B554A-83EC-4354-8730-EA10C8B3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4C0F53-1BD9-4ED4-B1F2-678F1E77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5D088A-7603-4974-9302-1F8ED3BA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1C1A3E-2B87-4B47-B74A-96E1178C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BBAC67-9F31-4DB3-9B90-7F4F34EA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09E09B-5360-4880-95E4-0F194AE1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743579-C9FC-4B2F-8B10-E3F88848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85426E-C9AC-4DF8-ABB6-D8166218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DE7A02-ACCB-41D3-B9CC-36E05AF9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D3E37B-E0A2-40C4-96A2-0D15DFD0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3BC9F-3127-4157-BF81-C1B70C3C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B74CA6-D537-472F-AFE8-18E91656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30A39F-5CCC-4A0D-B9F3-5D4D73FE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ACAD4F-95C2-4596-8093-333B6CF9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185F0E-C590-4BA4-9503-8CCC273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E4A3C2-B0DC-49A8-8257-D3C5AC12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0E9E58-DA2D-4B2C-9119-555DB4B0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D1AB19-1F78-4EB6-ACB6-19893014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76D74D-D58F-4FAE-A900-59EA7D08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C262CE-5392-4095-B77B-737D01DA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A2FB1A-FA39-48A3-A336-BF687714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DC903-4873-45EC-9F49-CC9BD5BA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060CF7-5BE6-40AF-99D4-C44A599F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6EE681-38F6-445F-9D10-9A36CAFE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F71B07-456A-4FF5-94E2-F3549786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6AE9A4-116F-43B6-94AE-CA5BB689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D3BBBE-C8CA-4DB2-ADB7-CEA607F8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B9D9D5-EB83-49EA-85B6-0023B56D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4FFDE6-DF31-4F95-8E7A-B5A5E701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C02BF6-DFDA-45AB-9193-D29FF96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C31BEF-76A2-40C7-9F81-EC7637CB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6DD45A-990B-4A43-9544-EC57FDD1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14DE6-2385-44AD-952A-C9DF4F1A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1AC086-FA6C-4CD0-88D8-96C64A40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1B8ACE-01B6-4B14-8961-E3F2544A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0AEE22-9B10-45B3-9E78-02138737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8C6284-6C46-4251-9BD5-6681E179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38A70D-1D00-4581-823B-E7BFA004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DD2174-6597-4AAC-82BB-07D838AB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9D3DCA-34A1-4DEC-AB18-F1A899FE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2D0440-9067-484A-A2F7-79A881B1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CE2FA9-971B-4789-B328-4F16A2DB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7A9C62-9ECF-4C44-A8F4-8F02E8A0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53766-26F1-49C2-922B-D77D2062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C1FB14-E7D4-446E-8465-D329B7E4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53DC19-A606-4DA1-9FB0-0267461A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1DC8E6-1E60-4E3E-BCF9-F2448BB5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BB5DC5-7704-421B-9EF3-80FB3AEB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8644C1-C328-4BCC-8F08-79B17400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D40540-27CA-4AA5-8611-F38879B6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9F9484-4284-4761-928E-3FBE1408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5B5A7E-1C52-4A96-87C7-46B51A89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88B1D7-33DC-4E6E-97B4-DF837CD4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AE7ABC-3D38-4174-BD9C-CECA49E6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7D72-3BD2-4A00-A1DF-1E51C484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EFC1E-ECF2-4085-8C9D-24C0D84D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EF0369-26B3-4305-A833-0234F533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B9F7D4-2571-4933-9D84-461195FA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6B746F-5A6F-4A01-90C9-31ECD544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5A3E0C-E6F8-4C44-BFE4-C09E9D92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64A78F-6780-4ECA-9BDA-AB72E738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1105C8-4D3F-435A-A5EF-C4F1DBD5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465860-87A9-460C-AF4F-1E2199AC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AB8F28-F1C9-446F-AAA3-3227E756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0F3453-58AE-4E04-89B2-5492FB57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7EEDC4-A784-491A-A682-4BFB8A57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822B8-978C-4377-A29A-7B461EEE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1915E3-D989-4080-A967-7CFBF406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53F9C3-AC74-4EF6-9361-83495342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D870ED4-4FF7-43FE-8B54-7B3D1B42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13DD08C-65F8-4799-B079-373951EA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EA2C9E-1C39-416C-81CB-9F68E072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2C64AD-B1D1-4E2A-B3DC-60354631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6F45BC-3CA8-41A8-A535-31B6B938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17729A-1272-48D6-AB56-833D5EBA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DF2B84-7738-40D7-BC07-BBE6C650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7AD413-199B-4222-9388-DD644D1D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66EA8-6606-4FED-9736-99A4E9D6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970D138-E4ED-44AE-87B5-69E86818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3BED72-8730-4386-B484-198729C9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96A984-8673-4522-B0FB-1AAC7346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A0E5FD-D789-42B4-AC15-6F5AD73D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2482A04-7B74-4FD6-BDE0-FB97260E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DEBE58-5B8B-4E10-917A-097BB47C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88B94F-A25C-44A1-B05D-C1FCDE55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A7A29C-1882-4F50-A17A-C36ED133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63FDB4-91D8-480F-847F-363CF3D2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30BA3D-E9F2-4C33-9C15-A4E17FB9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0CECF-916A-4AFB-A050-5A0F9E55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0FF5FDF-7BDE-4FA0-A6CF-79E6AC6C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1F7FECE-3473-45A5-B7C3-84D6A863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60178B9-9A20-4D4E-8BBF-7CBEE427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667920-2366-4FD5-9045-71FD0D23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5C2E3E3-284A-4485-A3DD-13045A9D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5D41F01-B8B5-494C-9B49-03B66870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7601E04-A3BE-4913-A752-7BEA7632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23D7F05-2AEA-4FFE-9132-93EB4F17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CAE0B9-C02E-44B4-AF56-0F6B0ADA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C12349B-8935-4FFC-888D-5CB0936D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E4442-CD0A-469F-BDFA-D27BACB0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EB7A1B-9CFD-424F-A7EA-E9B26E93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85E919-5465-4B37-8EA2-0E791B1E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A2C528-A96E-4D6E-BAEF-F591F6D1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9DDEF38-60CD-4E5F-BB36-00ADF10E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BA0153-3EA2-4ED1-AD2D-71457B01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FF62A16-5809-4204-BE09-5DF3B497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BB2F0EE-7EAE-4B17-8AB0-6AB06153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102AF8-564E-46FB-B71E-ADBD51DC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F125BE-3FBE-4677-84F6-44FB82B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849663E-CFDC-4C67-954E-A6A633D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F88DD-AED6-4877-97CB-27C03B62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EEEE584-3264-4839-9BDF-42ABCEE8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018FD6-8979-4DC6-B742-BDFCE178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B42801-DE0C-4303-A3BF-3F1BDD59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E1D2153-583F-40F3-8F16-3643DB21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AA5A15-1D7C-493B-B9FB-2429EBF6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CFFF98E-3E96-446A-A471-494740DB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BF37C4C-F681-4532-A232-0813FB40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377988-E89D-465B-9192-4012811D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003BEEE-9D32-4E76-B0D9-34F40624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DCD393D-73FC-4D4C-A489-6698541D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1DB3A-D147-42E1-994B-B21118D1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8D7259B-AD4C-46DF-A072-580A5026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5F143C9-6879-4188-9278-20399082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4DF327C-D7E0-4949-9907-DE001D2C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F1ADD08-9B38-416D-ADC4-87DAE15B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8629615-D3DE-49F1-939A-52DD7F3E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60549C5-153D-4DEE-8D8E-F0185988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D9303F-413B-4CCA-AE33-177546CA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11406E2-9F6F-4077-935F-8D15B562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292F99F-D135-43BC-9A85-32E4783A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EAA947-F796-49A6-993B-1BB7A1BE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B8D41-1BCD-4438-A9E0-5FCC1306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026D15D-1B70-47B9-A3C1-98ACB130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16218A8-F3A0-4AAF-A6F2-8BCAD8C4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FEF3540-D298-454C-850C-A8C7A13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8DA6061-93B9-4678-A569-ED8D78E1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4415DA7-1FB4-4D9A-8497-256717F9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ADD2164-D6F8-4109-BA22-3274555E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91367ED-A7E4-4870-BFD7-35920945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F822FD-505F-4D62-A50C-EC50B3A5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0F790A0-8C16-48D2-84BD-9B96C4A5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34DBBE-6544-4608-96CE-F549E663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0FA91-A897-4CFF-897B-7B9CF00C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061455E-C635-4551-802A-250883A2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11C5704-01E4-47C8-B088-3B15D709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C30F8C3-B763-44AB-B36B-062990F2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23DE81A-DDF0-4A72-B238-51CCCE70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7501E71-7345-4354-ADCE-F433F1C6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B8EF292-EB85-4D41-9343-0B82AB4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77681A2-BA4B-4466-A9F9-1BC17B7B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EAB718-B17E-416A-95E1-7165B799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533AABD-6419-4A17-9FCA-D5CAC011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0D098FD-A6DF-4BAA-96CB-6BE20AD0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4C183-9E7F-45BD-B1BD-2C37F032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52CC9A4-857E-4094-87AB-3CA595E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D68C405-A16F-4A66-A054-D80C9C45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A3BB4F8-7A6C-4673-9003-72B1BB79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241CFF7-F525-4277-9020-CA0CC716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62502C-3CB9-4ACF-9425-263803CF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1CAC1A8-15AD-408D-9B73-DE1C3CB3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BC8D780-FDC9-469D-94FF-FFF435A0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69C198D-CCAB-44A4-BF04-F9E50F8F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9D7F2F5-504E-444D-AD5D-3F3885AE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3D93A12-66FB-4FEA-9534-384C0EC3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60A6A-4F75-46EE-81B1-4345C370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0F47C-97AE-4306-A403-4367A8C1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81A5E51-4B42-4C01-86A2-89EBFE56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BE2EFB5-2F3F-4DF1-AC8C-6A5160EE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1E6CB5A-7F31-424F-85AB-A18A14D9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9A8ED1D-7AE5-42B2-836C-1D77F90B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9746B8D-B34D-4343-BA4F-D52FC118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6396459-9BC2-4283-9825-168CC4F1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F80F9E1-5957-46D0-9977-15B6E8F1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3E2C99-936B-4C36-8407-EBFBF320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3923D96-03A2-4631-8A20-4C3AC1F1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8337497-F459-4A7B-BBF0-6B55617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E90C0-7C54-4700-9741-35CA7E15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F04CE72-7A2D-4672-BFA8-971AB5BA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F63AE04-C6B4-478A-B221-CA532B1B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BBB72BC-5198-4D03-AD7A-2B4A6FC9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334FA9C-EA9A-47E0-8740-8F905EE4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6C22354-4A30-4E9B-8D6B-346650EA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C57B9A3-FB3F-4D50-B214-A300091E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2577CB8-6FC0-4AB6-A5ED-CC6BAF6B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9FEFCFF-7439-4AB4-9AD1-48C34DEB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EB63D7B-83EE-4AB3-B246-623C1CED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7217ADC-DF94-4D40-890C-FF01ED6A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F6E21-0C0E-4C66-A7B0-80DDA819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E904A0A-A000-468B-AD40-AD3B74BF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68318E9-1270-4700-8F22-A8C22F51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215FCA3-CBA2-4D42-85DE-3DAC5D4F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BF06498-C4B2-410A-8BBE-B83177BD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A5FE4E3-4E04-432F-9660-445C09B0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7799587-5EA2-451E-8979-E50705C8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B1405A0-10C5-4DD3-B97A-3644CFF2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29410D1-3E0D-4224-BB31-365EE449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638FD29-3CD0-433B-94EC-422CCD3B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A1AC769-FF07-47D2-948C-122520E5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46553-0CDA-4626-8F14-D1E68815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DC505AC-178F-4800-80E2-112C50F2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B807E86-9DFD-4F66-9353-4410DA95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204BDF4-D213-4B0E-9C24-F912B2F4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162629D-9262-4B4E-B0BD-7271028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3E043E0-EF46-44D5-B3EF-C1182DCD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709230A-3339-4160-9181-800B2D20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0C46CDC-5332-40E3-84DB-CE3E9685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59D0BB5-F121-4551-9692-E8E38798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C41DF61-A6ED-4DA0-AAEC-9B012A88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69E4BA3-7F49-43F8-9A23-ECF5DCFB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F0604-548C-46A9-9255-B0137BAB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810322D-C9C0-4856-8E65-665AF910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AA617C1-1EFB-482B-BD37-11885A9A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BBD4D3F-BFC9-4C6C-BF17-AF747372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103842A-3601-4C62-9AA9-00AF05BB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B3E3A58-9279-47AF-9A1D-CC38FF56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5E81A75-2FFC-48C9-81DE-883F78C4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332DFA8-CC54-49CE-9E77-CD906114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3E191C7-1EBB-424F-8EA9-8354E619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C5C4581-BC25-46E7-B9FB-FF262B2A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2F51A74-E32D-4948-BCC5-9FB27621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2E306-2756-4FDA-85DB-F2AF81E6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8E35FA1-6A51-487C-8650-7B9ED512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C192693-7947-46D7-9787-AF183816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C1B891D-F905-4530-B3F4-F98ED924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BE0E41E-5BB2-4316-A98F-1F47B8B3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B4FF5A3-1DB8-4A9B-9DC2-19F8EFF9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CC69234-7FAE-42E9-A95C-A5FAEDE9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2ECDBC4-E92C-4F5F-B11A-D91EFD50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EF4D7AD-480F-4538-858E-E84D8687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05A677B-AE69-45AB-A20C-B3FA5ED2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179FA1D-285E-40D0-B6FB-456A65D9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68CC5-5BB2-4AB7-8081-12C22062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464AE66-1A7E-4BD5-B61D-01C9AFB4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2B43BC2-C9B8-409D-B908-BC6DA6CE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854F365-A546-47DC-9F9A-E9CB8335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FA89199-2D6A-46DC-907C-09718BF8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19417CE-2121-4D39-BFEF-F14BB279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C2194EA-94B3-4B2F-83B8-5418678C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8F4C057-91FF-460F-A025-D05ECDA3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98F7841-CC55-4F90-8915-F9DD3178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1523BA5-4A0B-4A80-9080-66141A14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3199324-7B48-4E9C-9DA8-07239071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E90D8-4594-4977-B1BB-1032F133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18B058B-A519-4FCB-8DA5-704F0653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35B00CF-A4B9-499D-9FB7-90C9F6AB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F10394F-B951-4885-9CF9-51807380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C0B6E14-BEB7-45A6-9139-BAE8E174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EF28E16-6E51-4A56-8547-DF588BC0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C6DE5B0-0980-4B17-9B93-5D72F540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35D49EF-406E-43B4-97F2-52C40802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14F6D88-8E49-4309-8F6A-686D524C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FECFB22-79A0-4F96-932A-E1AD1F48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B194BAB-00B8-46CF-B0B3-258A635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BD259-6BD4-400D-9389-C3C3EF4B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9DB0049-07F3-401E-819C-94F517F4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3D9764A-DBEB-4AA8-85F5-3BB5AC03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27922CA-974D-4B65-9135-5DEA6C84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D95A0DB-E632-44BA-8B29-235DBF54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05B606A-E6E2-4312-A7D9-1472D641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18EDB06-7DEE-477E-9360-3A28F702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DFD9ABD-8299-4B6B-BC49-5C866CBB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9685983-8B19-4153-8B1F-D43B2661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20BB683-7D2D-4870-8B98-9C3D6BF6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E3902BF-5A0A-4D87-8C10-8DCB85D9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DA187-7E4E-42A6-81FC-DC535308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413D7B5-276C-4D0A-85E1-6FC2CB89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010035E-310E-4E6E-AD4E-A5A18596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4C1F945-4479-48E3-86E3-D2885D23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6380FA5-FD44-4541-B806-90EFDD0D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593D440-178B-416E-9348-74D9D4E6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B91B12F-D7FA-4406-80AD-F3FFAA41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7A2442E-9FDD-4F46-AAE0-EC0978F1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2A9604B-1634-45D5-A63E-3C3C956C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0A6B82F-36F7-4037-86B7-F3F9EA6B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108C9F4-C35F-4FAF-8E15-5C07EEC0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13A2-7E9E-433F-AAD4-9A3EF7E0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38D93-3A38-42C0-8C13-A36AF992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DEFE18D-3A84-47E2-B567-B7FE2EFD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8B1E513-2BF8-4CE1-AE60-06A5AE3D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DDC6EA1-04A5-4D99-8050-7DE7EBBD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34D9F3F-3F6D-4BEB-8DB3-E20B9C6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8478B37-EEB0-430E-BDE1-0EE56F98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D9EB630-C219-4AC7-9FBD-457AF0F9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87423E7-DA66-4175-8A6D-5D44503E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C9E8F7C-BCC0-47D8-AD70-CDF19F5E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D059F8E-FEC3-4273-86A1-2D119467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501FD45-046E-4772-8B95-B7876437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BA241-525F-406B-94BE-16789658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FD7FF3B-85BC-4C39-B1BD-5EBB3EC8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C06F856-5DFF-49F2-973C-3DB77679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B5760ED-E3AE-4A54-91AC-0224F765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FCBFB6E-9F58-478A-84F5-A13B90D7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42DB76E-009C-4E7B-A1AE-F30D23C0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50FF718-703E-4CC0-808B-94089A47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C652624-5CC1-4DFC-9130-630D9BA2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4F7C3D2-FB85-4F17-B50A-9A4D7B27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6CC2676-1F05-4039-BE9A-E82F6A99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74B891E-CB1B-4D81-8F30-23393720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F9DDF-ED15-40D7-8AF9-E21ECE70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EBB825E-8CBC-4F87-81F1-645939B3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D7154BF-7668-49EE-9FC5-05787022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6394AC1-A7BF-43E1-9760-C57BEA46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19A5589-3D3C-4DB8-80E7-9F6B4FA8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6CE1D88-B822-4649-8B44-B534EA15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E9C2811-C286-473D-A367-43B4D4A5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A5ECB28-86E0-437E-8849-8967DA28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7DDE303-0E84-4666-9671-229D7D6C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7DADC79-4C5C-45C1-B672-F0DFAE5E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F90AC60-D96B-436B-9B0B-9E405F82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1765D-77D8-45F9-A426-C6A3FEAE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56F1200-705F-4CF8-80E8-EB134192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571145F-962D-4539-B3CA-BA91242E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E26BC53-10CF-4AFD-9418-26564A51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73DCC1C-D58C-44F9-9F3C-1A5FC503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830F673-A566-41B5-A5ED-897F73B8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9BE9EFF-83C8-4742-B5C3-CA6C7CEC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690CE8E-41ED-4FC2-ACB4-3F49B1A2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CB84BB3-5D7F-4C06-A2E4-EAF5C871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BFA5A4A-2EE8-4CBB-A2E0-6E1D0CE7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9F23F9B-F6BC-4AED-BBBE-ABD1DED8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ACA9B-470B-46A6-BD2D-1D0AC24A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F3CBC24-B87B-41E3-9C09-F8E5762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80CE13D-E3B8-4786-8727-E3CAF97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6AC6833-9C74-4993-98D9-8C726F8A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7A26E51-3F1E-4BB9-86B9-351B7F79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2A75E04-F253-40BD-B4AE-C6F1A746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DC9304F-54BB-438F-A2A6-4AA927FD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4227409-8B6D-481D-A5F5-5AE3B2BB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9325DA6-81EF-4900-84E2-BA30E6AF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D04ACE5-13C0-4709-8A7A-CC8237B7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F42D295-37AA-458B-9181-C3E39774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9C630-4B58-4502-9A63-35F5F5B5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69BF8A6-1152-4EB5-9E30-7585EA1F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4A1D1AF-A56C-441A-8826-41D75109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327122E-FB1C-48F3-ADF6-8EFCAF5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CCBB0BD-3AD1-46F2-8AD5-9A895F0A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E34A792-CF22-41F3-AA86-39506C58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C7FAF5C-0668-4FAB-9F55-5CE7CCC5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85451C8-33AB-427C-BA82-0D0CFCFE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9382B6E-FD92-4BB4-A66A-380D94C3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F06F77C-5C9B-41EE-9345-F03CFF68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9A717E4-2F16-40FD-BF16-DD1FC3BB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B4970D-C3C8-46A8-9C1B-3C006408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AA6E073-F37C-4D86-B898-D87E623D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BDC5E4F-3BC3-4E27-B5EA-A186A396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9909285-9A1F-4D73-8549-32EB7978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A5B97FC-BFFD-4907-B71C-FA78C2B1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2F8A6A5-946B-4A3D-B537-7BA59A5D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77DB2B8-AFA6-49D1-8E9E-0785CD9A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5E5B404-F15F-4B21-80EA-404076CC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F14B54D-39FA-4E0B-8055-D948816F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C199B8B-C45A-40A5-ADCA-9A74E633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B6F28-8144-48D0-BFCA-7039FF41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D69D8-A101-42A4-AA13-CAE3E65A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B233E-5457-42A1-9ED8-B9085D9F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EB44-0720-4B8D-AD1B-36CA024F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28560-AE23-4815-B7A6-0CCF8561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65C7B-7C8F-4B6A-B031-84390650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24B62-3405-41FC-B9F4-C285BF1E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F590E-612F-40B8-881B-0FD8DC88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91982-9345-4BA7-9FE5-92D9C5C5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199EF-4CE3-4C73-8E7C-AC50210D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73430-2FA6-4014-815A-9EC1F731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59217-BF18-42AB-8CA9-94FF103D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D3CEE-CAE4-420E-9BE4-C1CBC88C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10FD9-BA57-42AC-A5AC-CDE9E0F6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1531-4770-45DF-8248-9EE83D80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897DD-AFCD-443E-8106-125048E3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A0365-467B-4EA8-98E8-E9F4CCCB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FCA4A-DE95-4916-B27F-433B5020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750D6-ED41-4655-BE12-EE2487A3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9154A-C39E-406A-872F-6748F2FE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4C0083-9743-4608-B6C2-38ED0510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8D013-DAC4-4261-9F32-DFCC30DF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AC6F2-5A7D-42A9-906F-8C24C644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F66D0-8FCE-475E-B512-BE6B7581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60E1C-1AEE-4749-93A4-7C6107D5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D990-F08C-40EA-A1A9-A4771BE0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59786B-61AF-4B8A-B5B5-8183E4DA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E5D96-825F-4B46-9E8D-8171A90C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2B1E0-4B41-465C-9F8D-061A2CE1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F70B7-E97C-4865-8EE6-2112A6C6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26800-C794-4AC7-840B-66FDA9A4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8A876-9612-407C-8356-F44D28B4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A0325-35A3-4AFA-9BD0-79D79E32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2A692-0103-4041-877F-0544E4CE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D02D8-F0B0-4E0B-838B-AF4C490A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53A96-E285-4376-A9D6-25B90121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5BA9-AEF5-40F5-8572-1275FBD2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73606D-2CEA-4A2A-98CD-3DEC617A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1EAB14-1763-4F2B-B00D-E0409CFC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50C8B-6CB2-4270-9D9C-B60EF8A3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7B6E4E-8DEB-48E2-8131-E58091C0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38CF2-3D33-4859-B6DA-5E12ABCC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E2C825-4F61-436A-9EEB-1FDD3AF7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7747AB-411F-459E-B710-942AD7D6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41863-B234-4D9E-A2A0-89F46427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C7A830-9F5A-4D5D-B386-CFD945AA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2ECFDC-5048-4DC1-991C-2FB2A8B3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0EF1-3910-4020-83C5-B48CFFFB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6634AC-FE86-4808-B904-7EEB06BE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F8FE8-45B6-4076-8B1E-1052883C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3381BD-B8B7-43D5-AD42-9D83E7FE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757EC5-4C8A-4E02-9E1B-7404E062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41556E-2C70-405E-9657-9047CDA5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B4D2D8-1778-40B6-A5E6-F58A5518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76F95D-D832-4818-A9DB-696B8388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866C25-174D-4904-A414-D6950561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B924FC-F9EC-44F8-8413-347BE7FE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999504-97CC-4063-A868-051D4575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DA10-A8F5-44B8-BD6D-7DD7835BAFF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28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9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6516-3E85-4551-9AF9-6FFE18A2348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dt" idx="30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31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3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5E8D-3893-4638-A398-E0E69F3A906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dt" idx="3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34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35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7196-900E-4FA3-8118-F1597EE365C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dt" idx="36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37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38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E7AA-E5C8-4F85-AB5F-4EA9BE42B5C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dt" idx="39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40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41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6202-E868-4D35-9815-A61B138EDDD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dt" idx="42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43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4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CF1F-A135-404E-A7E0-0B2A4A45E3A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dt" idx="45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46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47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5640-510D-46F0-93DB-EAA5D850F6E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dt" idx="48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ftr" idx="49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sldNum" idx="50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85FD-FA9C-4911-B31E-40063B0664B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dt" idx="51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ftr" idx="52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sldNum" idx="53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1232-9EA7-4288-8214-9B1E1419BEF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dt" idx="54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ftr" idx="55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56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3381-F1B8-4D5E-A6F5-41AA25A37D7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dt" idx="57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ftr" idx="4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5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A74E-532C-4E02-B0E1-FD2E66AF015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6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ftr" idx="58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59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E5F0-66A2-4FC2-9556-04EA1FDF7C0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dt" idx="60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ftr" idx="61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sldNum" idx="62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E716-640B-410C-B570-CE2E82422D4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dt" idx="63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ftr" idx="64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sldNum" idx="65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B49C-B722-4473-A77A-4BBC826BA9C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dt" idx="66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ftr" idx="67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sldNum" idx="68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B9F0-7522-461D-BBC6-46B32AD0FDE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dt" idx="69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ftr" idx="70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sldNum" idx="71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B08D-D152-4246-9C80-D22CBEB02D0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dt" idx="72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ftr" idx="73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sldNum" idx="74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6DAD-66D8-4077-8DF7-23B8AE010F6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dt" idx="75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ftr" idx="76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sldNum" idx="77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03D5-E26D-4F29-A0A0-DB287E4F822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dt" idx="78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ftr" idx="79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sldNum" idx="80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B8F6-3D77-432F-BBB7-8A5C075CCCB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dt" idx="81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15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2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3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D0A9-BB42-4ADA-9DE4-A121F25CF73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 type="dt" idx="84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19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ftr" idx="85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sldNum" idx="86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81D8-A253-4B31-B036-DE995BA4F94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 type="dt" idx="87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8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7929-0D0C-491A-ADD8-BED614A9A5C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dt" idx="9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2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 type="ftr" idx="88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 type="sldNum" idx="89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4B1B-12D0-4EE7-A380-7C53ED4DFFB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 type="dt" idx="90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2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91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92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002F-AAE5-4696-9C4C-7675B89D8C0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 type="dt" idx="93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33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8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 type="ftr" idx="94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 type="sldNum" idx="95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EDA1-BE76-4746-82EE-6BCA29FB921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 type="dt" idx="96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38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4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 type="ftr" idx="97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 type="sldNum" idx="98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8A8F-259B-43D8-8D41-C7905BC0FA1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 type="dt" idx="99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42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0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 type="ftr" idx="100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 type="sldNum" idx="101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92A6-1584-4DEB-AF9F-128129BF21A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 type="dt" idx="102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4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47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ftr" idx="103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sldNum" idx="104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C2F4-56D1-4E00-892C-52D274FCD88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dt" idx="105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52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2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 type="ftr" idx="106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 type="sldNum" idx="107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9EC5-A2C6-4451-A9D2-859F8CDAEFE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 type="dt" idx="108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5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8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 type="ftr" idx="109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 type="sldNum" idx="110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9ADF-93F6-449B-B155-8D65C6F30BE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 type="dt" idx="111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2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61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4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2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3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3420-625E-4942-88F3-16E4E5406F5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6"/>
          <p:cNvSpPr>
            <a:spLocks noGrp="1"/>
          </p:cNvSpPr>
          <p:nvPr>
            <p:ph type="dt" idx="114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8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6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 type="ftr" idx="115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 type="sldNum" idx="116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C9D2-1955-4401-A3AF-92BF0190FBB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6"/>
          <p:cNvSpPr>
            <a:spLocks noGrp="1"/>
          </p:cNvSpPr>
          <p:nvPr>
            <p:ph type="dt" idx="117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0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EBF3-919A-4385-A0B5-35AA61CBE6B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dt" idx="12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3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4A46-11D7-4DC4-8360-6915CA923BD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dt" idx="15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6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4265-E019-45B6-B13B-4E0979C711B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dt" idx="18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9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0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DF66-B673-4D1C-AD7B-E5586DFAE89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dt" idx="2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22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6437-9B96-4752-A506-4D0468EE011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dt" idx="24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25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26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5097-045A-4B96-B804-E0D16CB44DD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dt" idx="27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3" name="Рисунок 18" descr="Абстрактный архитектурный дизайн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0">
            <a:noFill/>
          </a:ln>
        </p:spPr>
      </p:pic>
      <p:sp>
        <p:nvSpPr>
          <p:cNvPr id="1704" name=""/>
          <p:cNvSpPr txBox="1"/>
          <p:nvPr/>
        </p:nvSpPr>
        <p:spPr>
          <a:xfrm>
            <a:off x="2139840" y="894960"/>
            <a:ext cx="837432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Narrow"/>
              </a:rPr>
              <a:t>Аккредитационный мониторинг системы образ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 Narrow"/>
              </a:rPr>
              <a:t>задачи для муниципальных координаторов и ответственных лиц образовательных организ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5" name="Рисунок 20" descr=""/>
          <p:cNvPicPr/>
          <p:nvPr/>
        </p:nvPicPr>
        <p:blipFill>
          <a:blip r:embed="rId2"/>
          <a:stretch/>
        </p:blipFill>
        <p:spPr>
          <a:xfrm>
            <a:off x="1063800" y="214200"/>
            <a:ext cx="1285560" cy="1163880"/>
          </a:xfrm>
          <a:prstGeom prst="rect">
            <a:avLst/>
          </a:prstGeom>
          <a:ln w="0">
            <a:noFill/>
          </a:ln>
        </p:spPr>
      </p:pic>
      <p:pic>
        <p:nvPicPr>
          <p:cNvPr id="1706" name="Рисунок 22" descr=""/>
          <p:cNvPicPr/>
          <p:nvPr/>
        </p:nvPicPr>
        <p:blipFill>
          <a:blip r:embed="rId3"/>
          <a:stretch/>
        </p:blipFill>
        <p:spPr>
          <a:xfrm>
            <a:off x="10648800" y="285840"/>
            <a:ext cx="72864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334800" y="188640"/>
            <a:ext cx="11017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18b9"/>
                </a:solidFill>
                <a:latin typeface="Arial Narrow"/>
              </a:rPr>
              <a:t>Организация проведения аккредитационного мониторинга в 2023 году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1708" name="Diagram1" descr=""/>
          <p:cNvPicPr/>
          <p:nvPr/>
        </p:nvPicPr>
        <p:blipFill>
          <a:blip r:embed="rId1"/>
          <a:stretch/>
        </p:blipFill>
        <p:spPr>
          <a:xfrm>
            <a:off x="622440" y="1262160"/>
            <a:ext cx="8935920" cy="5267160"/>
          </a:xfrm>
          <a:prstGeom prst="rect">
            <a:avLst/>
          </a:prstGeom>
          <a:ln w="0">
            <a:noFill/>
          </a:ln>
        </p:spPr>
      </p:pic>
      <p:sp>
        <p:nvSpPr>
          <p:cNvPr id="1709" name="TextBox 4"/>
          <p:cNvSpPr/>
          <p:nvPr/>
        </p:nvSpPr>
        <p:spPr>
          <a:xfrm>
            <a:off x="1116000" y="906480"/>
            <a:ext cx="9713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VIII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Приволжский федеральный округ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дата ВКС                   сроки внесения данных в ИС 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                                               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03.11.2023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                         06.11.2023 – 19.11.202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8"/>
          <p:cNvSpPr/>
          <p:nvPr/>
        </p:nvSpPr>
        <p:spPr>
          <a:xfrm>
            <a:off x="9390240" y="1917720"/>
            <a:ext cx="23223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 Narrow"/>
              </a:rPr>
              <a:t>Письмо Рособрнадзора от 08.09.2023 № 06-2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1" name="Рисунок 10" descr=""/>
          <p:cNvPicPr/>
          <p:nvPr/>
        </p:nvPicPr>
        <p:blipFill>
          <a:blip r:embed="rId2"/>
          <a:stretch/>
        </p:blipFill>
        <p:spPr>
          <a:xfrm>
            <a:off x="9451800" y="2658960"/>
            <a:ext cx="219888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07880" y="365040"/>
            <a:ext cx="11376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18b9"/>
                </a:solidFill>
                <a:latin typeface="Arial Narrow"/>
              </a:rPr>
              <a:t>Критерии отбора организаций, осуществляющих образовательную деятельность, для проведения аккредитационного мониторинга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grpSp>
        <p:nvGrpSpPr>
          <p:cNvPr id="1713" name="Объект 3"/>
          <p:cNvGrpSpPr/>
          <p:nvPr/>
        </p:nvGrpSpPr>
        <p:grpSpPr>
          <a:xfrm>
            <a:off x="719280" y="1252440"/>
            <a:ext cx="10513800" cy="4351320"/>
            <a:chOff x="719280" y="1252440"/>
            <a:chExt cx="10513800" cy="4351320"/>
          </a:xfrm>
        </p:grpSpPr>
        <p:sp>
          <p:nvSpPr>
            <p:cNvPr id="1714" name="Прямоугольник 91"/>
            <p:cNvSpPr/>
            <p:nvPr/>
          </p:nvSpPr>
          <p:spPr>
            <a:xfrm>
              <a:off x="807840" y="1252440"/>
              <a:ext cx="10274760" cy="43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5" name="Скругленный прямоугольник 92"/>
            <p:cNvGrpSpPr/>
            <p:nvPr/>
          </p:nvGrpSpPr>
          <p:grpSpPr>
            <a:xfrm>
              <a:off x="725040" y="1944000"/>
              <a:ext cx="5033520" cy="1384200"/>
              <a:chOff x="725040" y="1944000"/>
              <a:chExt cx="5033520" cy="1384200"/>
            </a:xfrm>
          </p:grpSpPr>
          <p:pic>
            <p:nvPicPr>
              <p:cNvPr id="1716" name="Скругленный прямоугольник 92" descr=""/>
              <p:cNvPicPr/>
              <p:nvPr/>
            </p:nvPicPr>
            <p:blipFill>
              <a:blip r:embed="rId1"/>
              <a:stretch/>
            </p:blipFill>
            <p:spPr>
              <a:xfrm>
                <a:off x="725040" y="1944000"/>
                <a:ext cx="5033520" cy="138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7" name=""/>
              <p:cNvSpPr/>
              <p:nvPr/>
            </p:nvSpPr>
            <p:spPr>
              <a:xfrm>
                <a:off x="844560" y="2021400"/>
                <a:ext cx="4728960" cy="11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680" rIns="40680" tIns="76680" bIns="76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Arial Narrow"/>
                  </a:rPr>
                  <a:t>Образовательные программы общего образован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Стрелка вправо 93"/>
            <p:cNvGrpSpPr/>
            <p:nvPr/>
          </p:nvGrpSpPr>
          <p:grpSpPr>
            <a:xfrm>
              <a:off x="3024360" y="3279240"/>
              <a:ext cx="369000" cy="371880"/>
              <a:chOff x="3024360" y="3279240"/>
              <a:chExt cx="369000" cy="371880"/>
            </a:xfrm>
          </p:grpSpPr>
          <p:pic>
            <p:nvPicPr>
              <p:cNvPr id="1719" name="Стрелка вправо 93" descr=""/>
              <p:cNvPicPr/>
              <p:nvPr/>
            </p:nvPicPr>
            <p:blipFill>
              <a:blip r:embed="rId2"/>
              <a:stretch/>
            </p:blipFill>
            <p:spPr>
              <a:xfrm>
                <a:off x="3024360" y="3279240"/>
                <a:ext cx="36900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5400000">
                <a:off x="3138120" y="3322440"/>
                <a:ext cx="14256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1" name="Скругленный прямоугольник 94"/>
            <p:cNvGrpSpPr/>
            <p:nvPr/>
          </p:nvGrpSpPr>
          <p:grpSpPr>
            <a:xfrm>
              <a:off x="719280" y="3590280"/>
              <a:ext cx="4974120" cy="1402200"/>
              <a:chOff x="719280" y="3590280"/>
              <a:chExt cx="4974120" cy="1402200"/>
            </a:xfrm>
          </p:grpSpPr>
          <p:pic>
            <p:nvPicPr>
              <p:cNvPr id="1722" name="Скругленный прямоугольник 94" descr=""/>
              <p:cNvPicPr/>
              <p:nvPr/>
            </p:nvPicPr>
            <p:blipFill>
              <a:blip r:embed="rId3"/>
              <a:stretch/>
            </p:blipFill>
            <p:spPr>
              <a:xfrm>
                <a:off x="719280" y="3590280"/>
                <a:ext cx="4974120" cy="14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3" name=""/>
              <p:cNvSpPr/>
              <p:nvPr/>
            </p:nvSpPr>
            <p:spPr>
              <a:xfrm>
                <a:off x="844560" y="3679560"/>
                <a:ext cx="4728960" cy="115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1560" rIns="25560" tIns="61560" bIns="61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 Narrow"/>
                  </a:rPr>
                  <a:t>Наличие государственной аккредитации образовательной деятельност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 Narrow"/>
                  </a:rPr>
                  <a:t>Наличие выпуска обучающихся в 2022 году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4" name="Скругленный прямоугольник 95"/>
            <p:cNvGrpSpPr/>
            <p:nvPr/>
          </p:nvGrpSpPr>
          <p:grpSpPr>
            <a:xfrm>
              <a:off x="6199560" y="1944000"/>
              <a:ext cx="5033520" cy="1384200"/>
              <a:chOff x="6199560" y="1944000"/>
              <a:chExt cx="5033520" cy="1384200"/>
            </a:xfrm>
          </p:grpSpPr>
          <p:pic>
            <p:nvPicPr>
              <p:cNvPr id="1725" name="Скругленный прямоугольник 95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9560" y="1944000"/>
                <a:ext cx="5033520" cy="138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6" name=""/>
              <p:cNvSpPr/>
              <p:nvPr/>
            </p:nvSpPr>
            <p:spPr>
              <a:xfrm>
                <a:off x="6316560" y="2021400"/>
                <a:ext cx="4728960" cy="11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680" rIns="40680" tIns="76680" bIns="76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Arial Narrow"/>
                  </a:rPr>
                  <a:t>Образовательные программы СПО-В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Стрелка вправо 96"/>
            <p:cNvGrpSpPr/>
            <p:nvPr/>
          </p:nvGrpSpPr>
          <p:grpSpPr>
            <a:xfrm>
              <a:off x="8493120" y="3279240"/>
              <a:ext cx="369000" cy="371880"/>
              <a:chOff x="8493120" y="3279240"/>
              <a:chExt cx="369000" cy="371880"/>
            </a:xfrm>
          </p:grpSpPr>
          <p:pic>
            <p:nvPicPr>
              <p:cNvPr id="1728" name="Стрелка вправо 96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3120" y="3279240"/>
                <a:ext cx="36900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9" name=""/>
              <p:cNvSpPr/>
              <p:nvPr/>
            </p:nvSpPr>
            <p:spPr>
              <a:xfrm rot="5400000">
                <a:off x="8610480" y="3322440"/>
                <a:ext cx="14256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0" name="Скругленный прямоугольник 97"/>
            <p:cNvGrpSpPr/>
            <p:nvPr/>
          </p:nvGrpSpPr>
          <p:grpSpPr>
            <a:xfrm>
              <a:off x="6193440" y="3590280"/>
              <a:ext cx="5003640" cy="1402200"/>
              <a:chOff x="6193440" y="3590280"/>
              <a:chExt cx="5003640" cy="1402200"/>
            </a:xfrm>
          </p:grpSpPr>
          <p:pic>
            <p:nvPicPr>
              <p:cNvPr id="1731" name="Скругленный прямоугольник 9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93440" y="3590280"/>
                <a:ext cx="5003640" cy="14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2" name=""/>
              <p:cNvSpPr/>
              <p:nvPr/>
            </p:nvSpPr>
            <p:spPr>
              <a:xfrm>
                <a:off x="6316200" y="3679560"/>
                <a:ext cx="4728960" cy="115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120" rIns="24120" tIns="60120" bIns="60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6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900" spc="-1" strike="noStrike">
                    <a:solidFill>
                      <a:srgbClr val="000000"/>
                    </a:solidFill>
                    <a:latin typeface="Arial Narrow"/>
                  </a:rPr>
                  <a:t>Наличие государственной аккредитации образовательной деятельности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66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900" spc="-1" strike="noStrike">
                    <a:solidFill>
                      <a:srgbClr val="000000"/>
                    </a:solidFill>
                    <a:latin typeface="Arial Narrow"/>
                  </a:rPr>
                  <a:t>Наличие выпуска обучающихся в 2021,2022 годы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-360" y="100080"/>
            <a:ext cx="11783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18b9"/>
                </a:solidFill>
                <a:latin typeface="Arial Narrow"/>
              </a:rPr>
              <a:t>Навигация координации взаимодействия в ходе подготовки</a:t>
            </a:r>
            <a:br>
              <a:rPr sz="2800"/>
            </a:br>
            <a:r>
              <a:rPr b="1" lang="ru-RU" sz="2800" spc="-1" strike="noStrike">
                <a:solidFill>
                  <a:srgbClr val="0718b9"/>
                </a:solidFill>
                <a:latin typeface="Arial Narrow"/>
              </a:rPr>
              <a:t> и проведения аккредитационного мониторинга 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1734" name="Diagram2" descr=""/>
          <p:cNvPicPr/>
          <p:nvPr/>
        </p:nvPicPr>
        <p:blipFill>
          <a:blip r:embed="rId1"/>
          <a:stretch/>
        </p:blipFill>
        <p:spPr>
          <a:xfrm>
            <a:off x="828720" y="1133640"/>
            <a:ext cx="1081404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23880" y="115920"/>
            <a:ext cx="10910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18b9"/>
                </a:solidFill>
                <a:latin typeface="Arial Narrow"/>
              </a:rPr>
              <a:t>Информационное пространство обратных связей</a:t>
            </a:r>
            <a:endParaRPr b="0" lang="en-US" sz="2800" spc="-1" strike="noStrike">
              <a:solidFill>
                <a:srgbClr val="44546a"/>
              </a:solidFill>
              <a:latin typeface="Arial"/>
            </a:endParaRPr>
          </a:p>
        </p:txBody>
      </p:sp>
      <p:pic>
        <p:nvPicPr>
          <p:cNvPr id="1736" name="Diagram3" descr=""/>
          <p:cNvPicPr/>
          <p:nvPr/>
        </p:nvPicPr>
        <p:blipFill>
          <a:blip r:embed="rId1"/>
          <a:stretch/>
        </p:blipFill>
        <p:spPr>
          <a:xfrm>
            <a:off x="311040" y="1639800"/>
            <a:ext cx="5139000" cy="4552920"/>
          </a:xfrm>
          <a:prstGeom prst="rect">
            <a:avLst/>
          </a:prstGeom>
          <a:ln w="0">
            <a:noFill/>
          </a:ln>
        </p:spPr>
      </p:pic>
      <p:grpSp>
        <p:nvGrpSpPr>
          <p:cNvPr id="1737" name="Объект 9"/>
          <p:cNvGrpSpPr/>
          <p:nvPr/>
        </p:nvGrpSpPr>
        <p:grpSpPr>
          <a:xfrm>
            <a:off x="5808600" y="1420920"/>
            <a:ext cx="5702400" cy="4763880"/>
            <a:chOff x="5808600" y="1420920"/>
            <a:chExt cx="5702400" cy="4763880"/>
          </a:xfrm>
        </p:grpSpPr>
        <p:sp>
          <p:nvSpPr>
            <p:cNvPr id="1738" name="Прямоугольник 148"/>
            <p:cNvSpPr/>
            <p:nvPr/>
          </p:nvSpPr>
          <p:spPr>
            <a:xfrm>
              <a:off x="5808600" y="1420920"/>
              <a:ext cx="57016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Трапеция 149"/>
            <p:cNvSpPr/>
            <p:nvPr/>
          </p:nvSpPr>
          <p:spPr>
            <a:xfrm rot="10800000">
              <a:off x="5809320" y="1420560"/>
              <a:ext cx="5701680" cy="1190160"/>
            </a:xfrm>
            <a:prstGeom prst="pie">
              <a:avLst/>
            </a:prstGeom>
            <a:solidFill>
              <a:srgbClr val="4472c4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0160" rIns="20160" tIns="20160" bIns="20160" anchor="ctr" rot="10800000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718b9"/>
                  </a:solidFill>
                  <a:latin typeface="Arial Narrow"/>
                </a:rPr>
                <a:t>Федеральная служба по надзору в сфере образования и нау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Главное мен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Аккредитационный мониторин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 Narrow"/>
                </a:rPr>
                <a:t>Аккредитационный мониторин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Трапеция 150"/>
            <p:cNvSpPr/>
            <p:nvPr/>
          </p:nvSpPr>
          <p:spPr>
            <a:xfrm rot="10800000">
              <a:off x="6522120" y="2611440"/>
              <a:ext cx="4276080" cy="1190160"/>
            </a:xfrm>
            <a:prstGeom prst="pie">
              <a:avLst/>
            </a:prstGeom>
            <a:solidFill>
              <a:srgbClr val="4472c4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0160" rIns="20160" tIns="20160" bIns="20160" anchor="ctr" rot="10800000">
              <a:noAutofit/>
            </a:bodyPr>
            <a:p>
              <a:pPr algn="ctr"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718b9"/>
                  </a:solidFill>
                  <a:latin typeface="Arial Narrow"/>
                </a:rPr>
                <a:t>Министерство образования Саратовской области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Главное мен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Аккредитационный мониторин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Трапеция 151"/>
            <p:cNvSpPr/>
            <p:nvPr/>
          </p:nvSpPr>
          <p:spPr>
            <a:xfrm rot="10800000">
              <a:off x="7234920" y="3803760"/>
              <a:ext cx="2850480" cy="1190160"/>
            </a:xfrm>
            <a:prstGeom prst="pie">
              <a:avLst/>
            </a:prstGeom>
            <a:solidFill>
              <a:srgbClr val="4472c4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0160" rIns="20160" tIns="20160" bIns="20160" anchor="ctr" rot="10800000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718b9"/>
                  </a:solidFill>
                  <a:latin typeface="Arial Narrow"/>
                </a:rPr>
                <a:t>Органы МС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Раздел «Мониторинги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Аккредитационный мониторин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Трапеция 152"/>
            <p:cNvSpPr/>
            <p:nvPr/>
          </p:nvSpPr>
          <p:spPr>
            <a:xfrm rot="10800000">
              <a:off x="7947720" y="4994640"/>
              <a:ext cx="1424880" cy="1190160"/>
            </a:xfrm>
            <a:custGeom>
              <a:avLst/>
              <a:gdLst>
                <a:gd name="textAreaLeft" fmla="*/ 474840 w 1424880"/>
                <a:gd name="textAreaRight" fmla="*/ 950040 w 1424880"/>
                <a:gd name="textAreaTop" fmla="*/ 396720 h 1190160"/>
                <a:gd name="textAreaBottom" fmla="*/ 1190520 h 1190160"/>
              </a:gdLst>
              <a:ahLst/>
              <a:rect l="textAreaLeft" t="textAreaTop" r="textAreaRight" b="textAreaBottom"/>
              <a:pathLst>
                <a:path w="1424880" h="1190160">
                  <a:moveTo>
                    <a:pt x="0" y="1190160"/>
                  </a:moveTo>
                  <a:lnTo>
                    <a:pt x="712346" y="0"/>
                  </a:lnTo>
                  <a:lnTo>
                    <a:pt x="712534" y="0"/>
                  </a:lnTo>
                  <a:lnTo>
                    <a:pt x="1424880" y="1190160"/>
                  </a:lnTo>
                  <a:close/>
                </a:path>
              </a:pathLst>
            </a:custGeom>
            <a:solidFill>
              <a:srgbClr val="4472c4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Прямоугольник 7"/>
          <p:cNvSpPr/>
          <p:nvPr/>
        </p:nvSpPr>
        <p:spPr>
          <a:xfrm>
            <a:off x="838080" y="1825560"/>
            <a:ext cx="44658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TextBox 10"/>
          <p:cNvSpPr/>
          <p:nvPr/>
        </p:nvSpPr>
        <p:spPr>
          <a:xfrm>
            <a:off x="8688240" y="5040360"/>
            <a:ext cx="2880000" cy="130716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18b9"/>
                </a:solidFill>
                <a:latin typeface="Arial Narrow"/>
              </a:rPr>
              <a:t>Образовательные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здел «Независимая оц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ачества образов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Аккредитационный монитор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TextBox 12"/>
          <p:cNvSpPr/>
          <p:nvPr/>
        </p:nvSpPr>
        <p:spPr>
          <a:xfrm>
            <a:off x="784800" y="1155600"/>
            <a:ext cx="2757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18b9"/>
                </a:solidFill>
                <a:latin typeface="Arial Narrow"/>
              </a:rPr>
              <a:t>Каналы оперативной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TextBox 14"/>
          <p:cNvSpPr/>
          <p:nvPr/>
        </p:nvSpPr>
        <p:spPr>
          <a:xfrm>
            <a:off x="7491960" y="1052640"/>
            <a:ext cx="41202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18b9"/>
                </a:solidFill>
                <a:latin typeface="Arial Narrow"/>
              </a:rPr>
              <a:t>Официальные сайты в сети в «Интерн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9T07:57:26Z</dcterms:created>
  <dc:creator>Д.А.Неверов</dc:creator>
  <dc:description/>
  <dc:language>en-US</dc:language>
  <cp:lastModifiedBy>j.ardabackaya</cp:lastModifiedBy>
  <dcterms:modified xsi:type="dcterms:W3CDTF">2023-09-20T13:31:46Z</dcterms:modified>
  <cp:revision>4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5</vt:r8>
  </property>
</Properties>
</file>